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CA5B-9C6B-41C1-92F7-6E06DC4CB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66C9-6583-4B9E-BFD3-5CD17380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49BC-E9C2-4DAF-86B8-4153A417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0D2-5B89-43B0-8F61-AA4AAD0C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4D1D-B276-45AF-99C7-FC591FD0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2D2F-237D-4E61-A9B2-BA2BE00B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F398-C5EA-486A-AA12-2F8A5AE6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74B5-9C41-4043-B620-A0396105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9BFD-53B0-4E74-886D-3EBD9E11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66BA-8E5B-4140-BEA7-573C6637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51B9-17D8-431F-9EE3-E6FBBD99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6EFF-DCDD-4C58-A912-57564060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86AF-0D79-4FF2-B1A2-8541255F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389C-80A3-4EAD-87C6-633F8AA9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97F5-53AE-4EAE-8E37-FA3A16AD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3825-F4E8-4FD3-9C73-E73BB56A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8B45-5A46-4DC1-B4AA-01755049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C5DD-6B55-463C-9F38-5700B244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13D-3AE2-4B74-B5B3-75996626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E39-E0E4-4EA1-813B-3833FA9A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20F0-BC6D-46BE-BA17-A21C0A24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8CD3-9670-4440-A795-698F08D9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099D-3394-4335-88FC-4067FB9C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E3AA-3F0C-432D-9E63-E0E622C6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F7BB-D6FD-420F-ABFC-2C9270288FF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2ACC-23A3-493C-8DB4-94C175549EBA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Freshmen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DO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arelessness:mistakes::_________:________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rite the relationship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swers-Exampl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ctions:consequenc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lationship is cause and effec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Vocabulary Practice-Fill in the blank with the vocabulary word that fits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e was called upon to serve______ as a member of the board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e _________ on the woman’s right to vot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carries herself with such ______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e is the ________ of consideratio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is so ________ to be mean to her younger broth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ocused Freewrit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f you could spend one year in perfect happiness but afterward you would remember nothing of the experience would you do so? If not, why not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o Kill a Mockingbir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rite a summary of ch. 14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o workshee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ad ch. 15 for tomorrow</a:t>
            </a:r>
            <a:r>
              <a:rPr b="0" lang="en-US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46:21Z</dcterms:created>
  <dc:creator>rebecca</dc:creator>
  <dc:description/>
  <dc:language>en-US</dc:language>
  <cp:lastModifiedBy>rebecca</cp:lastModifiedBy>
  <dcterms:modified xsi:type="dcterms:W3CDTF">2009-02-18T19:17:43Z</dcterms:modified>
  <cp:revision>2</cp:revision>
  <dc:subject/>
  <dc:title>DOA</dc:title>
</cp:coreProperties>
</file>